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944-B1BC-4D0B-9A0A-7020C78F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36E-C000-4BAE-8841-6D6F1C14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E85-9D13-4EC1-93F9-B8E3838C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CA9-8C5D-43EB-8583-2433EB6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E29-F9B1-4A4E-80BE-ABB40D86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AA6-E8EF-47B8-983F-A79E801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810-B7F3-4985-AD4E-08524F43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F08-2524-4E66-8164-C5AB946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CCC-61E5-42BC-AE9C-12793746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66E-0302-4D83-A86D-8E4FFB42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3C2-F6DC-4385-99FE-913B2DC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EA7-4287-44A0-AF5C-1500FF1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AD9B-2E82-4939-8A31-F93F1733C8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217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079640"/>
            <a:ext cx="79549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738360" y="2494080"/>
            <a:ext cx="2889000" cy="6458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2"/>
          <p:cNvSpPr/>
          <p:nvPr/>
        </p:nvSpPr>
        <p:spPr>
          <a:xfrm>
            <a:off x="1763640" y="3429000"/>
            <a:ext cx="1638360" cy="1062000"/>
          </a:xfrm>
          <a:prstGeom prst="line">
            <a:avLst/>
          </a:prstGeom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>
            <a:off x="1744560" y="3402000"/>
            <a:ext cx="7308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val 12"/>
          <p:cNvSpPr/>
          <p:nvPr/>
        </p:nvSpPr>
        <p:spPr>
          <a:xfrm>
            <a:off x="3403440" y="4468680"/>
            <a:ext cx="71640" cy="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2332080" y="37846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1403280" y="2970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532320" y="423828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2449440" y="3418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944640" y="4979880"/>
            <a:ext cx="42498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50760" y="3365640"/>
            <a:ext cx="4249800" cy="12794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841320" y="2266920"/>
            <a:ext cx="2127240" cy="4636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444680" y="2730600"/>
            <a:ext cx="1749240" cy="6159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944640" y="1085760"/>
            <a:ext cx="177948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963720" y="4711680"/>
            <a:ext cx="669924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938160" y="5913360"/>
            <a:ext cx="4249800" cy="6764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3"/>
          <p:cNvSpPr/>
          <p:nvPr/>
        </p:nvSpPr>
        <p:spPr>
          <a:xfrm>
            <a:off x="6205680" y="3400560"/>
            <a:ext cx="2466720" cy="10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04a7b"/>
                </a:solidFill>
                <a:latin typeface="Calibri"/>
              </a:rPr>
              <a:t>There are other methods that you could u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6:51Z</dcterms:modified>
  <cp:revision>110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