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47C-45C8-4E1E-813F-EDF637F7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CCE-7A22-4899-8E8E-10A7659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F94-F274-4415-85C8-B782E582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FDA-8281-42C3-AF53-0C805BA6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AD4-775E-409D-8512-4745785F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CA2-5824-4286-A8FE-D90B4AE0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D68-3D17-4454-B118-70B5307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DE8-8E1E-4C08-9E43-2F32B7A3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9A2-5982-4504-9B59-82E4690D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01A-AC96-4800-A7EC-20A4BC7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AE8-ACAB-4923-AFF3-112FD366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224-A032-4CDF-A1E6-B05F104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0976-4F7E-41AA-8BE8-FEA146DB416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920880" y="3481560"/>
            <a:ext cx="7851600" cy="12920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2120" y="2451240"/>
            <a:ext cx="41083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19" descr=""/>
          <p:cNvPicPr/>
          <p:nvPr/>
        </p:nvPicPr>
        <p:blipFill>
          <a:blip r:embed="rId5"/>
          <a:stretch/>
        </p:blipFill>
        <p:spPr>
          <a:xfrm>
            <a:off x="6516720" y="2712960"/>
            <a:ext cx="1994040" cy="9637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884160" y="4705200"/>
            <a:ext cx="7912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768240" y="2371680"/>
            <a:ext cx="82260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3"/>
          <a:stretch/>
        </p:blipFill>
        <p:spPr>
          <a:xfrm>
            <a:off x="871560" y="1646280"/>
            <a:ext cx="7553160" cy="54756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938160" y="1079640"/>
            <a:ext cx="6815160" cy="4633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847800" y="2889360"/>
            <a:ext cx="1834920" cy="4633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841320" y="3449520"/>
            <a:ext cx="384660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7"/>
          <a:stretch/>
        </p:blipFill>
        <p:spPr>
          <a:xfrm>
            <a:off x="890640" y="4151160"/>
            <a:ext cx="380988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8"/>
          <a:stretch/>
        </p:blipFill>
        <p:spPr>
          <a:xfrm>
            <a:off x="871560" y="46641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858960" y="5303880"/>
            <a:ext cx="183492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706840" y="5254560"/>
            <a:ext cx="38401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9:31Z</dcterms:modified>
  <cp:revision>11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