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05EC-C4D8-4B27-A8E8-F32B0649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FD01-1EED-486E-A6F2-2BF17BF4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BA1F-2B4F-4636-B4B9-8DF9B4DA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D119-EC8D-4D52-A360-42061DC4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DAC-31B7-4892-82C3-90D0A879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5306-7C5E-4299-9440-E77BB4F2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7CC-4B8D-4DAC-981C-B498E10A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761-171A-428A-B5E5-06F8CDF1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EC2-AE42-4FDF-9807-DE18BD8B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E5F-ADFF-47DB-8D34-6D860BF4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0A2-2618-4A32-928A-5B6A58C2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AABF-C7F5-470D-B59C-5F338FF7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703C-7274-4B7A-AF54-E64BA748BBF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908000" y="3286080"/>
            <a:ext cx="53038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1"/>
          <a:stretch/>
        </p:blipFill>
        <p:spPr>
          <a:xfrm>
            <a:off x="371520" y="1006560"/>
            <a:ext cx="8315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4" descr=""/>
          <p:cNvPicPr/>
          <p:nvPr/>
        </p:nvPicPr>
        <p:blipFill>
          <a:blip r:embed="rId2"/>
          <a:stretch/>
        </p:blipFill>
        <p:spPr>
          <a:xfrm>
            <a:off x="682560" y="1189080"/>
            <a:ext cx="7851960" cy="646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5840280" y="1878120"/>
            <a:ext cx="2713320" cy="907920"/>
          </a:xfrm>
          <a:prstGeom prst="rect">
            <a:avLst/>
          </a:prstGeom>
          <a:ln w="0">
            <a:noFill/>
          </a:ln>
        </p:spPr>
      </p:pic>
      <p:pic>
        <p:nvPicPr>
          <p:cNvPr id="46" name="Content Placeholder 2" descr=""/>
          <p:cNvPicPr/>
          <p:nvPr/>
        </p:nvPicPr>
        <p:blipFill>
          <a:blip r:embed="rId4"/>
          <a:stretch/>
        </p:blipFill>
        <p:spPr>
          <a:xfrm>
            <a:off x="768240" y="5516640"/>
            <a:ext cx="4419720" cy="64620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469800" y="1889280"/>
            <a:ext cx="5205600" cy="54288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438120" y="2444760"/>
            <a:ext cx="4998960" cy="10112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480960" y="3389400"/>
            <a:ext cx="4859280" cy="622080"/>
          </a:xfrm>
          <a:prstGeom prst="rect">
            <a:avLst/>
          </a:prstGeom>
          <a:ln w="0">
            <a:noFill/>
          </a:ln>
        </p:spPr>
      </p:pic>
      <p:sp>
        <p:nvSpPr>
          <p:cNvPr id="50" name="Isosceles Triangle 1"/>
          <p:cNvSpPr/>
          <p:nvPr/>
        </p:nvSpPr>
        <p:spPr>
          <a:xfrm>
            <a:off x="5759280" y="3251160"/>
            <a:ext cx="2924280" cy="863640"/>
          </a:xfrm>
          <a:prstGeom prst="triangle">
            <a:avLst>
              <a:gd name="adj" fmla="val 0"/>
            </a:avLst>
          </a:prstGeom>
          <a:noFill/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2" descr=""/>
          <p:cNvPicPr/>
          <p:nvPr/>
        </p:nvPicPr>
        <p:blipFill>
          <a:blip r:embed="rId8"/>
          <a:stretch/>
        </p:blipFill>
        <p:spPr>
          <a:xfrm>
            <a:off x="7412040" y="3706920"/>
            <a:ext cx="590400" cy="461880"/>
          </a:xfrm>
          <a:prstGeom prst="rect">
            <a:avLst/>
          </a:prstGeom>
          <a:ln w="0">
            <a:noFill/>
          </a:ln>
        </p:spPr>
      </p:pic>
      <p:pic>
        <p:nvPicPr>
          <p:cNvPr id="52" name="Content Placeholder 2" descr=""/>
          <p:cNvPicPr/>
          <p:nvPr/>
        </p:nvPicPr>
        <p:blipFill>
          <a:blip r:embed="rId9"/>
          <a:stretch/>
        </p:blipFill>
        <p:spPr>
          <a:xfrm>
            <a:off x="7070760" y="3193920"/>
            <a:ext cx="592200" cy="47016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2" descr=""/>
          <p:cNvPicPr/>
          <p:nvPr/>
        </p:nvPicPr>
        <p:blipFill>
          <a:blip r:embed="rId10"/>
          <a:stretch/>
        </p:blipFill>
        <p:spPr>
          <a:xfrm>
            <a:off x="5237280" y="3449520"/>
            <a:ext cx="583920" cy="46368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2" descr=""/>
          <p:cNvPicPr/>
          <p:nvPr/>
        </p:nvPicPr>
        <p:blipFill>
          <a:blip r:embed="rId11"/>
          <a:stretch/>
        </p:blipFill>
        <p:spPr>
          <a:xfrm>
            <a:off x="6748560" y="4127400"/>
            <a:ext cx="590400" cy="4683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5759280" y="3933720"/>
            <a:ext cx="158760" cy="176400"/>
          </a:xfrm>
          <a:prstGeom prst="rect">
            <a:avLst/>
          </a:prstGeom>
          <a:noFill/>
          <a:ln w="1908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rc 5"/>
          <p:cNvSpPr/>
          <p:nvPr/>
        </p:nvSpPr>
        <p:spPr>
          <a:xfrm rot="12320400">
            <a:off x="7481880" y="3816000"/>
            <a:ext cx="334800" cy="349200"/>
          </a:xfrm>
          <a:custGeom>
            <a:avLst/>
            <a:gdLst/>
            <a:ahLst/>
            <a:rect l="l" t="t" r="r" b="b"/>
            <a:pathLst>
              <a:path stroke="0" w="334968" h="349809">
                <a:moveTo>
                  <a:pt x="232337" y="13645"/>
                </a:moveTo>
                <a:cubicBezTo>
                  <a:pt x="298299" y="42576"/>
                  <a:pt x="339381" y="112068"/>
                  <a:pt x="334592" y="186614"/>
                </a:cubicBezTo>
                <a:cubicBezTo>
                  <a:pt x="329758" y="261857"/>
                  <a:pt x="279287" y="325393"/>
                  <a:pt x="209369" y="344252"/>
                </a:cubicBezTo>
                <a:lnTo>
                  <a:pt x="167484" y="174905"/>
                </a:lnTo>
                <a:lnTo>
                  <a:pt x="232337" y="13645"/>
                </a:lnTo>
                <a:close/>
              </a:path>
              <a:path fill="none" w="334968" h="349809">
                <a:moveTo>
                  <a:pt x="232337" y="13645"/>
                </a:moveTo>
                <a:cubicBezTo>
                  <a:pt x="298299" y="42576"/>
                  <a:pt x="339381" y="112068"/>
                  <a:pt x="334592" y="186614"/>
                </a:cubicBezTo>
                <a:cubicBezTo>
                  <a:pt x="329758" y="261857"/>
                  <a:pt x="279287" y="325393"/>
                  <a:pt x="209369" y="344252"/>
                </a:cubicBezTo>
              </a:path>
            </a:pathLst>
          </a:custGeom>
          <a:noFill/>
          <a:ln w="1908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2" descr=""/>
          <p:cNvPicPr/>
          <p:nvPr/>
        </p:nvPicPr>
        <p:blipFill>
          <a:blip r:embed="rId12"/>
          <a:stretch/>
        </p:blipFill>
        <p:spPr>
          <a:xfrm>
            <a:off x="487440" y="4340160"/>
            <a:ext cx="5248080" cy="542880"/>
          </a:xfrm>
          <a:prstGeom prst="rect">
            <a:avLst/>
          </a:prstGeom>
          <a:ln w="0">
            <a:noFill/>
          </a:ln>
        </p:spPr>
      </p:pic>
      <p:pic>
        <p:nvPicPr>
          <p:cNvPr id="58" name="Content Placeholder 2" descr=""/>
          <p:cNvPicPr/>
          <p:nvPr/>
        </p:nvPicPr>
        <p:blipFill>
          <a:blip r:embed="rId13"/>
          <a:stretch/>
        </p:blipFill>
        <p:spPr>
          <a:xfrm>
            <a:off x="480960" y="4956120"/>
            <a:ext cx="52246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27T11:10:55Z</dcterms:modified>
  <cp:revision>127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