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033-96E0-493C-8F6F-EF41E985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A73-3BA1-4F6C-B412-C84DBF144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F06-429E-42D9-B9AB-D6EBC603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D73-DE24-4D98-961E-B1B02DEB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1A2-ADA6-4C49-8CAD-0635FB1A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FD4-68E1-4D99-8136-E9EB25F9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C73-257F-4D89-88D1-364DFF00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8B9-494E-481D-B80F-9C94A475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398-8165-4C91-BD50-3B70319F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483-FDEE-4529-B97D-711ABE8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FE8-25EF-4CA5-BA16-9313A0C1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469-021E-4EBA-A9CF-63B8EA9B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34A7-742B-4749-BF22-EBD26419A5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441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029280" y="2724120"/>
            <a:ext cx="2468520" cy="1146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2157480" y="5370480"/>
            <a:ext cx="185400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57200" y="2127240"/>
            <a:ext cx="5211720" cy="53676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80960" y="2792520"/>
            <a:ext cx="5595840" cy="633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63680" y="4432320"/>
            <a:ext cx="534672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665280" y="3614760"/>
            <a:ext cx="2601720" cy="6760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2193840" y="3633840"/>
            <a:ext cx="2597400" cy="6634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669960" y="5327640"/>
            <a:ext cx="1658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4" descr=""/>
          <p:cNvPicPr/>
          <p:nvPr/>
        </p:nvPicPr>
        <p:blipFill>
          <a:blip r:embed="rId2"/>
          <a:stretch/>
        </p:blipFill>
        <p:spPr>
          <a:xfrm>
            <a:off x="6224760" y="1878120"/>
            <a:ext cx="2455560" cy="8715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2023920" y="5010120"/>
            <a:ext cx="115740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450720" y="1212840"/>
            <a:ext cx="5211720" cy="53676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480960" y="4492800"/>
            <a:ext cx="5237280" cy="64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566640" y="3986280"/>
            <a:ext cx="1805040" cy="506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1824120" y="3930480"/>
            <a:ext cx="136512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536400" y="5048280"/>
            <a:ext cx="1657440" cy="54144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450720" y="1914480"/>
            <a:ext cx="568800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1731960" y="2365200"/>
            <a:ext cx="5686560" cy="53676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1731960" y="2822400"/>
            <a:ext cx="5686560" cy="5367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2"/>
          <a:stretch/>
        </p:blipFill>
        <p:spPr>
          <a:xfrm>
            <a:off x="469800" y="3382920"/>
            <a:ext cx="5686560" cy="63972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3"/>
          <a:stretch/>
        </p:blipFill>
        <p:spPr>
          <a:xfrm>
            <a:off x="2444760" y="3968640"/>
            <a:ext cx="1803240" cy="50652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4"/>
          <a:stretch/>
        </p:blipFill>
        <p:spPr>
          <a:xfrm>
            <a:off x="2610000" y="5052960"/>
            <a:ext cx="17967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10:22Z</dcterms:modified>
  <cp:revision>11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