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26D-F9CD-4534-952E-82BA6195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D34-880A-4E84-9FA2-98A4E841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9BF-2275-43E0-80C0-94239F3C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F25-0CC5-478D-B555-B17029475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22C-CAEE-4F58-8B74-D6902F65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61F-2499-408F-8ACF-CF5847A4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41A-5769-4857-BA4D-3860A1C0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16A8-3ABB-4AEF-AF3F-B27214E6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055-D6B3-4278-9B7D-BDE9366D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B791-DE91-42AB-B9B9-46ED7D8F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A017-0247-4FE1-9FC0-6A95401E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5759-67C4-49F4-A898-8EF0BB46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A6D4-D6B1-418B-B589-D2CF3F4C27D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90600" y="1023840"/>
            <a:ext cx="8296200" cy="1683000"/>
          </a:xfrm>
          <a:prstGeom prst="rect">
            <a:avLst/>
          </a:prstGeom>
          <a:ln w="0">
            <a:noFill/>
          </a:ln>
        </p:spPr>
      </p:pic>
      <p:pic>
        <p:nvPicPr>
          <p:cNvPr id="44" name="Content Placeholder 4" descr=""/>
          <p:cNvPicPr/>
          <p:nvPr/>
        </p:nvPicPr>
        <p:blipFill>
          <a:blip r:embed="rId3"/>
          <a:stretch/>
        </p:blipFill>
        <p:spPr>
          <a:xfrm>
            <a:off x="2755800" y="1779480"/>
            <a:ext cx="5842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4" descr=""/>
          <p:cNvPicPr/>
          <p:nvPr/>
        </p:nvPicPr>
        <p:blipFill>
          <a:blip r:embed="rId2"/>
          <a:stretch/>
        </p:blipFill>
        <p:spPr>
          <a:xfrm>
            <a:off x="682560" y="1163520"/>
            <a:ext cx="7851960" cy="10796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3"/>
          <a:stretch/>
        </p:blipFill>
        <p:spPr>
          <a:xfrm>
            <a:off x="785880" y="3413160"/>
            <a:ext cx="176832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682560" y="2382840"/>
            <a:ext cx="482760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19" descr=""/>
          <p:cNvPicPr/>
          <p:nvPr/>
        </p:nvPicPr>
        <p:blipFill>
          <a:blip r:embed="rId5"/>
          <a:stretch/>
        </p:blipFill>
        <p:spPr>
          <a:xfrm>
            <a:off x="6516720" y="2425680"/>
            <a:ext cx="1994040" cy="1146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981000" y="4505400"/>
            <a:ext cx="7845480" cy="10602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1152360" y="3943440"/>
            <a:ext cx="241308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974880" y="1030320"/>
            <a:ext cx="43891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32" descr=""/>
          <p:cNvPicPr/>
          <p:nvPr/>
        </p:nvPicPr>
        <p:blipFill>
          <a:blip r:embed="rId3"/>
          <a:stretch/>
        </p:blipFill>
        <p:spPr>
          <a:xfrm>
            <a:off x="5962680" y="1285920"/>
            <a:ext cx="2565360" cy="9572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4"/>
          <a:stretch/>
        </p:blipFill>
        <p:spPr>
          <a:xfrm>
            <a:off x="2871720" y="2309760"/>
            <a:ext cx="4383000" cy="7873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2865600" y="3206880"/>
            <a:ext cx="43891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31:51Z</dcterms:modified>
  <cp:revision>124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