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9C9-3F0C-439D-9221-2013AFA5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15B-CA1E-4B17-8D31-A83DB523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07B-1CA6-4FC2-9E4C-1233C752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478-2FE8-4DE2-9842-0299E1BD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7D8-CFF5-40B8-9D9D-3AB7F941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934-6532-4D42-BBA2-CF4931FB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A50-41E8-4781-9032-7EB13300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961-0DAC-450B-962E-3B3472B1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C05-0460-4EB9-A75C-3AC787FA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37C-B27B-4A50-BE15-B6A9648C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EE2-5901-4EEB-82D4-3A5F031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DA0-7CC4-4E98-9275-45ABD301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1908-2F6A-4B08-9E4A-60EAF081A3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58996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87440" y="1889280"/>
            <a:ext cx="907920" cy="64584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95160" y="1006560"/>
            <a:ext cx="784548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907920" y="3067200"/>
            <a:ext cx="5962680" cy="461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46240" y="3681360"/>
            <a:ext cx="3717720" cy="5191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189080" y="1901880"/>
            <a:ext cx="315756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7"/>
          <a:stretch/>
        </p:blipFill>
        <p:spPr>
          <a:xfrm>
            <a:off x="4541760" y="2023920"/>
            <a:ext cx="3998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2" descr=""/>
          <p:cNvPicPr/>
          <p:nvPr/>
        </p:nvPicPr>
        <p:blipFill>
          <a:blip r:embed="rId2"/>
          <a:stretch/>
        </p:blipFill>
        <p:spPr>
          <a:xfrm>
            <a:off x="493560" y="2359080"/>
            <a:ext cx="8321760" cy="1012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4" descr=""/>
          <p:cNvPicPr/>
          <p:nvPr/>
        </p:nvPicPr>
        <p:blipFill>
          <a:blip r:embed="rId3"/>
          <a:stretch/>
        </p:blipFill>
        <p:spPr>
          <a:xfrm>
            <a:off x="738360" y="1042920"/>
            <a:ext cx="8021520" cy="13762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4"/>
          <a:stretch/>
        </p:blipFill>
        <p:spPr>
          <a:xfrm>
            <a:off x="920880" y="4552920"/>
            <a:ext cx="3267000" cy="6350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5"/>
          <a:stretch/>
        </p:blipFill>
        <p:spPr>
          <a:xfrm>
            <a:off x="901800" y="3249720"/>
            <a:ext cx="3517920" cy="109044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6"/>
          <a:stretch/>
        </p:blipFill>
        <p:spPr>
          <a:xfrm>
            <a:off x="1305000" y="5200560"/>
            <a:ext cx="431460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7"/>
          <a:stretch/>
        </p:blipFill>
        <p:spPr>
          <a:xfrm>
            <a:off x="4572000" y="3260880"/>
            <a:ext cx="3749760" cy="109188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13" descr=""/>
          <p:cNvPicPr/>
          <p:nvPr/>
        </p:nvPicPr>
        <p:blipFill>
          <a:blip r:embed="rId8"/>
          <a:stretch/>
        </p:blipFill>
        <p:spPr>
          <a:xfrm>
            <a:off x="4937040" y="4541760"/>
            <a:ext cx="367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2" descr=""/>
          <p:cNvPicPr/>
          <p:nvPr/>
        </p:nvPicPr>
        <p:blipFill>
          <a:blip r:embed="rId2"/>
          <a:stretch/>
        </p:blipFill>
        <p:spPr>
          <a:xfrm>
            <a:off x="463680" y="1878120"/>
            <a:ext cx="8326440" cy="731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4" descr=""/>
          <p:cNvPicPr/>
          <p:nvPr/>
        </p:nvPicPr>
        <p:blipFill>
          <a:blip r:embed="rId3"/>
          <a:stretch/>
        </p:blipFill>
        <p:spPr>
          <a:xfrm>
            <a:off x="706320" y="1006560"/>
            <a:ext cx="795024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4"/>
          <a:stretch/>
        </p:blipFill>
        <p:spPr>
          <a:xfrm>
            <a:off x="920880" y="4797360"/>
            <a:ext cx="4279680" cy="6462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5"/>
          <a:stretch/>
        </p:blipFill>
        <p:spPr>
          <a:xfrm>
            <a:off x="895320" y="2571840"/>
            <a:ext cx="7742160" cy="6890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6"/>
          <a:stretch/>
        </p:blipFill>
        <p:spPr>
          <a:xfrm>
            <a:off x="901800" y="5383080"/>
            <a:ext cx="6761160" cy="6829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7"/>
          <a:stretch/>
        </p:blipFill>
        <p:spPr>
          <a:xfrm>
            <a:off x="914400" y="3260880"/>
            <a:ext cx="8113680" cy="7444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8"/>
          <a:stretch/>
        </p:blipFill>
        <p:spPr>
          <a:xfrm>
            <a:off x="920880" y="3975120"/>
            <a:ext cx="81136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4:14Z</dcterms:modified>
  <cp:revision>109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