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E2F6-A45C-4B72-B2BD-44154925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0CF1-4DA5-467B-A1CF-C4B53E84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922-818B-4750-A330-7C9BAF85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D969-ECFF-420F-8601-489744E7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9D46-E1D7-494B-B244-90061A41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A97-0392-483B-BCFE-777FDBBE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D5C-F4B1-49ED-A1C6-B3BC9F68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8060-438A-4127-B9E7-DFCC4D1A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051-B8A5-47B2-BDB6-551FAA63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B670-3B52-442D-BCAB-E8916A57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FB47-4E99-4461-9215-49D84CFB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303-D49A-4FA5-AE9C-F2D7758A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8B31-5F51-455C-9781-209E0128563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390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1079640"/>
            <a:ext cx="7956720" cy="137772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2" descr=""/>
          <p:cNvPicPr/>
          <p:nvPr/>
        </p:nvPicPr>
        <p:blipFill>
          <a:blip r:embed="rId3"/>
          <a:stretch/>
        </p:blipFill>
        <p:spPr>
          <a:xfrm>
            <a:off x="1298520" y="2494080"/>
            <a:ext cx="5291280" cy="4618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219320" y="3090960"/>
            <a:ext cx="2882880" cy="6890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30" descr=""/>
          <p:cNvPicPr/>
          <p:nvPr/>
        </p:nvPicPr>
        <p:blipFill>
          <a:blip r:embed="rId5"/>
          <a:stretch/>
        </p:blipFill>
        <p:spPr>
          <a:xfrm>
            <a:off x="5657760" y="2610000"/>
            <a:ext cx="2889360" cy="1028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6"/>
          <a:stretch/>
        </p:blipFill>
        <p:spPr>
          <a:xfrm>
            <a:off x="1403280" y="3900600"/>
            <a:ext cx="2664000" cy="200484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33" descr=""/>
          <p:cNvPicPr/>
          <p:nvPr/>
        </p:nvPicPr>
        <p:blipFill>
          <a:blip r:embed="rId7"/>
          <a:stretch/>
        </p:blipFill>
        <p:spPr>
          <a:xfrm>
            <a:off x="5657760" y="3949560"/>
            <a:ext cx="288936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16:21Z</dcterms:modified>
  <cp:revision>101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