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B4F-07DB-4315-8F00-66F76ACA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79A-F2EE-48DC-91C2-7B18FD1C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D14-5B5C-47EF-B728-BA6E7A96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A47-59F9-40CC-B159-09DD6D48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C72-72B9-4D89-97A0-8DC5DF8F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711-A493-4740-90E1-2DD2FD4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DE6-C62B-47D5-9208-92F6B38E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4B9-55A5-4A8F-882E-2731C96B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243-F125-43C8-A20F-06DCF164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733-B1FA-45A2-AC5E-58C9905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4E6-5A3D-49A6-93F2-F23EFEA8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9EB-7C9C-41DA-AA94-B88E04B6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982A-9657-4AF0-B406-5D8D049D5A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14156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68240" y="3517920"/>
            <a:ext cx="522468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2400" y="2243160"/>
            <a:ext cx="4827600" cy="12747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486480" y="3614760"/>
            <a:ext cx="2077920" cy="114624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774720" y="4748040"/>
            <a:ext cx="803448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200240" y="4041720"/>
            <a:ext cx="248760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22280" y="5364000"/>
            <a:ext cx="30243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762120" y="2414520"/>
            <a:ext cx="522432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785880" y="1847880"/>
            <a:ext cx="5011560" cy="67608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9" descr=""/>
          <p:cNvPicPr/>
          <p:nvPr/>
        </p:nvPicPr>
        <p:blipFill>
          <a:blip r:embed="rId4"/>
          <a:stretch/>
        </p:blipFill>
        <p:spPr>
          <a:xfrm>
            <a:off x="6351480" y="1835280"/>
            <a:ext cx="1994040" cy="841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781200" y="3602160"/>
            <a:ext cx="5722920" cy="1012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785880" y="1133640"/>
            <a:ext cx="2487600" cy="688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7"/>
          <a:stretch/>
        </p:blipFill>
        <p:spPr>
          <a:xfrm>
            <a:off x="3438360" y="1212840"/>
            <a:ext cx="3022920" cy="4636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8"/>
          <a:stretch/>
        </p:blipFill>
        <p:spPr>
          <a:xfrm>
            <a:off x="987480" y="2951280"/>
            <a:ext cx="4621320" cy="6141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9"/>
          <a:stretch/>
        </p:blipFill>
        <p:spPr>
          <a:xfrm>
            <a:off x="792000" y="4438800"/>
            <a:ext cx="5559480" cy="6458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0"/>
          <a:stretch/>
        </p:blipFill>
        <p:spPr>
          <a:xfrm>
            <a:off x="878040" y="4943520"/>
            <a:ext cx="470052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1"/>
          <a:stretch/>
        </p:blipFill>
        <p:spPr>
          <a:xfrm>
            <a:off x="957240" y="5230800"/>
            <a:ext cx="2865600" cy="61596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2"/>
          <a:stretch/>
        </p:blipFill>
        <p:spPr>
          <a:xfrm>
            <a:off x="944640" y="5791320"/>
            <a:ext cx="2865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2"/>
          <a:stretch/>
        </p:blipFill>
        <p:spPr>
          <a:xfrm>
            <a:off x="927000" y="1127160"/>
            <a:ext cx="291312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3"/>
          <a:stretch/>
        </p:blipFill>
        <p:spPr>
          <a:xfrm>
            <a:off x="3713040" y="1109520"/>
            <a:ext cx="2486160" cy="6829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4"/>
          <a:stretch/>
        </p:blipFill>
        <p:spPr>
          <a:xfrm>
            <a:off x="1066680" y="2066760"/>
            <a:ext cx="159084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5"/>
          <a:stretch/>
        </p:blipFill>
        <p:spPr>
          <a:xfrm>
            <a:off x="695160" y="2762280"/>
            <a:ext cx="2438640" cy="461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6"/>
          <a:stretch/>
        </p:blipFill>
        <p:spPr>
          <a:xfrm>
            <a:off x="1322280" y="3333600"/>
            <a:ext cx="13050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7"/>
          <a:stretch/>
        </p:blipFill>
        <p:spPr>
          <a:xfrm>
            <a:off x="639720" y="4095720"/>
            <a:ext cx="3498840" cy="6843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8"/>
          <a:stretch/>
        </p:blipFill>
        <p:spPr>
          <a:xfrm>
            <a:off x="1279440" y="4711680"/>
            <a:ext cx="364644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9"/>
          <a:stretch/>
        </p:blipFill>
        <p:spPr>
          <a:xfrm>
            <a:off x="1749600" y="5327640"/>
            <a:ext cx="33159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2" descr=""/>
          <p:cNvPicPr/>
          <p:nvPr/>
        </p:nvPicPr>
        <p:blipFill>
          <a:blip r:embed="rId2"/>
          <a:stretch/>
        </p:blipFill>
        <p:spPr>
          <a:xfrm>
            <a:off x="1481040" y="2212920"/>
            <a:ext cx="2908440" cy="6159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3"/>
          <a:stretch/>
        </p:blipFill>
        <p:spPr>
          <a:xfrm>
            <a:off x="785880" y="1079640"/>
            <a:ext cx="3500280" cy="10303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4"/>
          <a:stretch/>
        </p:blipFill>
        <p:spPr>
          <a:xfrm>
            <a:off x="1884240" y="2955960"/>
            <a:ext cx="2907000" cy="6652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5"/>
          <a:stretch/>
        </p:blipFill>
        <p:spPr>
          <a:xfrm>
            <a:off x="1895400" y="3786120"/>
            <a:ext cx="290844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7:12Z</dcterms:modified>
  <cp:revision>13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