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03D3-9003-4941-BCDC-675A5329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609-A04F-4A5F-87A7-A8BE7D16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4C1-C0C2-47E1-B716-EF025114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302A-62F6-4ADF-98A8-1F51F948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296C-825D-41C7-9D3A-9C08A7AA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E39-A7EF-4DCF-9AA2-86280B32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D317-9CCD-44A4-A0E6-EF185525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3E37-4272-46C0-9643-ABE6AC92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9C4-7C40-4804-8DD9-74C9C14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67B-2D6D-45EF-8D86-08A4DA4B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4AA-4E70-43A8-AAC1-6E3BED5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957-D667-473F-80B1-7CF4D865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515-19B7-4C93-8B44-8739C17A83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883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590400" y="1006560"/>
            <a:ext cx="797400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950080" y="2266920"/>
            <a:ext cx="3120840" cy="85428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490680" y="3662280"/>
            <a:ext cx="28526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938160" y="2857680"/>
            <a:ext cx="2035080" cy="7855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622440" y="1908000"/>
            <a:ext cx="227304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868400" y="4468680"/>
            <a:ext cx="1774800" cy="8524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20" descr=""/>
          <p:cNvPicPr/>
          <p:nvPr/>
        </p:nvPicPr>
        <p:blipFill>
          <a:blip r:embed="rId8"/>
          <a:stretch/>
        </p:blipFill>
        <p:spPr>
          <a:xfrm>
            <a:off x="5967360" y="3108240"/>
            <a:ext cx="3084480" cy="1013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2752560" y="1908000"/>
            <a:ext cx="3297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3413160" y="2709720"/>
            <a:ext cx="32972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833400" y="5645160"/>
            <a:ext cx="2975040" cy="67644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2158920" y="3736800"/>
            <a:ext cx="2846520" cy="4636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1798560" y="2803680"/>
            <a:ext cx="3348000" cy="933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812880" y="4608360"/>
            <a:ext cx="5400720" cy="93852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1314360" y="1197000"/>
            <a:ext cx="2597400" cy="68256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4" descr=""/>
          <p:cNvPicPr/>
          <p:nvPr/>
        </p:nvPicPr>
        <p:blipFill>
          <a:blip r:embed="rId7"/>
          <a:stretch/>
        </p:blipFill>
        <p:spPr>
          <a:xfrm>
            <a:off x="6127920" y="2147760"/>
            <a:ext cx="2609640" cy="5778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3268800" y="5388120"/>
            <a:ext cx="4535280" cy="9334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3240000" y="957240"/>
            <a:ext cx="3292560" cy="93204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843120" y="1844640"/>
            <a:ext cx="3833640" cy="100476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3" descr=""/>
          <p:cNvPicPr/>
          <p:nvPr/>
        </p:nvPicPr>
        <p:blipFill>
          <a:blip r:embed="rId11"/>
          <a:stretch/>
        </p:blipFill>
        <p:spPr>
          <a:xfrm>
            <a:off x="5435640" y="4162320"/>
            <a:ext cx="3328920" cy="5796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2"/>
          <a:stretch/>
        </p:blipFill>
        <p:spPr>
          <a:xfrm>
            <a:off x="1130400" y="4210200"/>
            <a:ext cx="2852640" cy="46332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16" descr=""/>
          <p:cNvPicPr/>
          <p:nvPr/>
        </p:nvPicPr>
        <p:blipFill>
          <a:blip r:embed="rId13"/>
          <a:stretch/>
        </p:blipFill>
        <p:spPr>
          <a:xfrm>
            <a:off x="6141960" y="4883040"/>
            <a:ext cx="26100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extBox 4" descr=""/>
          <p:cNvPicPr/>
          <p:nvPr/>
        </p:nvPicPr>
        <p:blipFill>
          <a:blip r:embed="rId2"/>
          <a:stretch/>
        </p:blipFill>
        <p:spPr>
          <a:xfrm>
            <a:off x="5761080" y="1301760"/>
            <a:ext cx="3120840" cy="858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3"/>
          <a:stretch/>
        </p:blipFill>
        <p:spPr>
          <a:xfrm>
            <a:off x="698400" y="995400"/>
            <a:ext cx="468180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4"/>
          <a:stretch/>
        </p:blipFill>
        <p:spPr>
          <a:xfrm>
            <a:off x="4214880" y="2478240"/>
            <a:ext cx="3298680" cy="147456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5"/>
          <a:stretch/>
        </p:blipFill>
        <p:spPr>
          <a:xfrm>
            <a:off x="685800" y="2992320"/>
            <a:ext cx="39751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6"/>
          <a:stretch/>
        </p:blipFill>
        <p:spPr>
          <a:xfrm>
            <a:off x="689040" y="4456080"/>
            <a:ext cx="3975120" cy="6778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7"/>
          <a:stretch/>
        </p:blipFill>
        <p:spPr>
          <a:xfrm>
            <a:off x="4229280" y="3949560"/>
            <a:ext cx="32922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6:42Z</dcterms:modified>
  <cp:revision>96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