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AF6-8BBD-4DBF-9804-A2517992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B5E-EA83-4E86-9AD6-E1EF5477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25D-D4CD-4310-BEAC-0B12D260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663-120B-4A92-89DD-77DCC44C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E25F-1711-46DC-937A-785D52A8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D03-E84F-4668-B07D-E7FEE630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221-EECB-40A0-904C-26260E7E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6E2-F5FD-4044-8DC8-3FC94CD2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EA8-988F-4BD1-A959-B9984C52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C24-102A-4519-9EC6-29F09385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F79-C6AD-4D69-BE02-71C3F213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58C-FEA8-4658-B01D-0076AF90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52B1-6458-435A-A162-F456151BE40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152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90828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000080" y="2438280"/>
            <a:ext cx="508968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2090880" y="3048120"/>
            <a:ext cx="379224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206360" y="1920960"/>
            <a:ext cx="53704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2"/>
          <a:stretch/>
        </p:blipFill>
        <p:spPr>
          <a:xfrm>
            <a:off x="476280" y="1962000"/>
            <a:ext cx="8326440" cy="6843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1285920" y="2639880"/>
            <a:ext cx="30416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22" descr=""/>
          <p:cNvPicPr/>
          <p:nvPr/>
        </p:nvPicPr>
        <p:blipFill>
          <a:blip r:embed="rId5"/>
          <a:stretch/>
        </p:blipFill>
        <p:spPr>
          <a:xfrm>
            <a:off x="5657760" y="1920960"/>
            <a:ext cx="2889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2"/>
          <a:stretch/>
        </p:blipFill>
        <p:spPr>
          <a:xfrm>
            <a:off x="596880" y="1865160"/>
            <a:ext cx="8059680" cy="646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914400" y="3492360"/>
            <a:ext cx="6918480" cy="101304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2865600" y="2346480"/>
            <a:ext cx="3406680" cy="4633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3371760" y="2755800"/>
            <a:ext cx="24195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1T11:10:19Z</dcterms:modified>
  <cp:revision>86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