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4D0C-03A1-44D2-A3D6-E979D3F2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415-4E51-4FB3-929B-68E30AEF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6CDC-9FEC-4A60-ADEE-4A124FAC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4603-8B49-469F-8498-7B98DAB6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D2E7-B278-430D-8CB3-40043F34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3AEB-7FBA-412E-9DD5-42A9DD90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D86-5DB0-49D8-B19D-4503BD13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3EEB-72EF-4A92-AC1A-AB900295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7416-FFA5-466C-9936-10D7DAD1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D5A9-D96C-4368-8E94-B56F4A89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7D05-BE2D-47E8-8176-798A64F0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669D-AF8E-421F-A791-A6F9C1A5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0070-BFFB-4749-B364-C1C3F07F702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46756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590400" y="1006560"/>
            <a:ext cx="7944120" cy="87768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6067440" y="2101680"/>
            <a:ext cx="2451240" cy="7876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627120" y="4017960"/>
            <a:ext cx="3400200" cy="4636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903240" y="2725560"/>
            <a:ext cx="5133960" cy="5479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447840" y="1955880"/>
            <a:ext cx="2273040" cy="61596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438120" y="3182760"/>
            <a:ext cx="5518080" cy="6940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2881440" y="1951200"/>
            <a:ext cx="3297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2" descr=""/>
          <p:cNvPicPr/>
          <p:nvPr/>
        </p:nvPicPr>
        <p:blipFill>
          <a:blip r:embed="rId2"/>
          <a:stretch/>
        </p:blipFill>
        <p:spPr>
          <a:xfrm>
            <a:off x="2098800" y="2706840"/>
            <a:ext cx="334800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3"/>
          <a:stretch/>
        </p:blipFill>
        <p:spPr>
          <a:xfrm>
            <a:off x="901800" y="1073160"/>
            <a:ext cx="2597040" cy="85896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4"/>
          <a:stretch/>
        </p:blipFill>
        <p:spPr>
          <a:xfrm>
            <a:off x="3165480" y="938160"/>
            <a:ext cx="3292560" cy="95112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5"/>
          <a:stretch/>
        </p:blipFill>
        <p:spPr>
          <a:xfrm>
            <a:off x="444600" y="1930320"/>
            <a:ext cx="467496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07:28Z</dcterms:modified>
  <cp:revision>101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