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A44E-E269-439F-8F9A-8CC7B00E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0E32-0A8C-4E12-B07E-EA3B615B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2562-8495-466B-8943-8EA7E3EF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EDBB-0BC9-4B47-82F1-8FE4C144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BA93-F92B-452C-8FFF-A0D5A167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702D-3573-45FA-B4C1-55745C4E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7EDD-8B8E-4FF1-8668-AB5EF9FC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3DB4-264C-439A-AC38-CE24A5BB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2DB5-F762-4D2C-8C8A-E489FF64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6DF9-A054-4AF3-920E-1B53CBD6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1496-F9F5-4E0E-8351-D30D4F9D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BE8E-B976-4CEA-8456-3EBC8686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DD3C-BA51-43FB-892F-4AB8A595F12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3152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93560" y="1962000"/>
            <a:ext cx="8180640" cy="64800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1859040" y="3041640"/>
            <a:ext cx="2133360" cy="46368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963720" y="2419200"/>
            <a:ext cx="5095800" cy="6955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2176560" y="3456000"/>
            <a:ext cx="15843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2" descr=""/>
          <p:cNvPicPr/>
          <p:nvPr/>
        </p:nvPicPr>
        <p:blipFill>
          <a:blip r:embed="rId2"/>
          <a:stretch/>
        </p:blipFill>
        <p:spPr>
          <a:xfrm>
            <a:off x="493560" y="1962000"/>
            <a:ext cx="8180640" cy="64800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4"/>
          <a:stretch/>
        </p:blipFill>
        <p:spPr>
          <a:xfrm>
            <a:off x="1841400" y="2968560"/>
            <a:ext cx="2133720" cy="4636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5"/>
          <a:stretch/>
        </p:blipFill>
        <p:spPr>
          <a:xfrm>
            <a:off x="963720" y="2419200"/>
            <a:ext cx="5095800" cy="69552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6"/>
          <a:stretch/>
        </p:blipFill>
        <p:spPr>
          <a:xfrm>
            <a:off x="2266920" y="3402000"/>
            <a:ext cx="153036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2" descr=""/>
          <p:cNvPicPr/>
          <p:nvPr/>
        </p:nvPicPr>
        <p:blipFill>
          <a:blip r:embed="rId2"/>
          <a:stretch/>
        </p:blipFill>
        <p:spPr>
          <a:xfrm>
            <a:off x="493560" y="1962000"/>
            <a:ext cx="8180640" cy="64800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4"/>
          <a:stretch/>
        </p:blipFill>
        <p:spPr>
          <a:xfrm>
            <a:off x="901800" y="3151080"/>
            <a:ext cx="2133360" cy="55584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5"/>
          <a:stretch/>
        </p:blipFill>
        <p:spPr>
          <a:xfrm>
            <a:off x="890640" y="2419200"/>
            <a:ext cx="5089320" cy="69552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6"/>
          <a:stretch/>
        </p:blipFill>
        <p:spPr>
          <a:xfrm>
            <a:off x="3206880" y="3151080"/>
            <a:ext cx="3022560" cy="54936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7"/>
          <a:stretch/>
        </p:blipFill>
        <p:spPr>
          <a:xfrm>
            <a:off x="841320" y="3949560"/>
            <a:ext cx="4816440" cy="51300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8"/>
          <a:stretch/>
        </p:blipFill>
        <p:spPr>
          <a:xfrm>
            <a:off x="987480" y="4559400"/>
            <a:ext cx="2766960" cy="54288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9"/>
          <a:stretch/>
        </p:blipFill>
        <p:spPr>
          <a:xfrm>
            <a:off x="828720" y="5157720"/>
            <a:ext cx="276840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2-08T10:41:26Z</dcterms:modified>
  <cp:revision>88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