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93D-A936-4798-9A4B-22B61153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93E-694D-456D-BCE7-1EA29958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D0C-D401-485C-9CB5-E62AEF19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A69-05C9-4010-9F37-36660925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75E-09C4-477B-A4F5-4EAC3177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8C6-F3C3-4C96-8732-5145D99D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AC2-F899-43C6-A725-6445E64A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C16-D1AA-4CAA-A4C6-88705C17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460-757C-4B5C-A036-3818696B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1CF-8D05-4AC1-B7D4-53D65DC5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D95-CBFE-41C9-AEDD-F32C040F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4AF-91ED-4DB8-94E8-FF4C398E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1899-5B93-46D5-BA3D-DA0DF51C5F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7120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82854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49640"/>
            <a:ext cx="2554200" cy="11458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3840120" y="3260880"/>
            <a:ext cx="1408320" cy="6458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689040" y="2017800"/>
            <a:ext cx="416412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69800" y="2670120"/>
            <a:ext cx="37418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981000" y="3309840"/>
            <a:ext cx="2505240" cy="5065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925640" y="3706920"/>
            <a:ext cx="3206880" cy="7365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3" descr=""/>
          <p:cNvPicPr/>
          <p:nvPr/>
        </p:nvPicPr>
        <p:blipFill>
          <a:blip r:embed="rId9"/>
          <a:stretch/>
        </p:blipFill>
        <p:spPr>
          <a:xfrm>
            <a:off x="5950080" y="4584600"/>
            <a:ext cx="2450880" cy="57312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463680" y="4541760"/>
            <a:ext cx="408924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2882880" y="5010120"/>
            <a:ext cx="28782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4" descr=""/>
          <p:cNvPicPr/>
          <p:nvPr/>
        </p:nvPicPr>
        <p:blipFill>
          <a:blip r:embed="rId2"/>
          <a:stretch/>
        </p:blipFill>
        <p:spPr>
          <a:xfrm>
            <a:off x="5657760" y="2335320"/>
            <a:ext cx="2724120" cy="90792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3"/>
          <a:stretch/>
        </p:blipFill>
        <p:spPr>
          <a:xfrm>
            <a:off x="596880" y="5138640"/>
            <a:ext cx="3865680" cy="9208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1030320" y="3749760"/>
            <a:ext cx="1388880" cy="7430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566640" y="2298600"/>
            <a:ext cx="504216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566640" y="2792520"/>
            <a:ext cx="391968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566640" y="927000"/>
            <a:ext cx="29149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13" descr=""/>
          <p:cNvPicPr/>
          <p:nvPr/>
        </p:nvPicPr>
        <p:blipFill>
          <a:blip r:embed="rId8"/>
          <a:stretch/>
        </p:blipFill>
        <p:spPr>
          <a:xfrm>
            <a:off x="5657760" y="3949560"/>
            <a:ext cx="2797200" cy="11890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566640" y="4614840"/>
            <a:ext cx="465156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0"/>
          <a:stretch/>
        </p:blipFill>
        <p:spPr>
          <a:xfrm>
            <a:off x="579600" y="1511280"/>
            <a:ext cx="2876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9:00Z</dcterms:modified>
  <cp:revision>10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