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3CE-80B7-433A-A09B-FB1AFDC4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139-CBA2-4991-84E6-2E5966BD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9980-CB05-4C9E-B7CA-23DA0ED8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823D-F6AC-45E5-9990-C7A57D45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295-50E5-4DD4-8D60-6D71FBB3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F69-8794-43AD-AF26-A09E76C8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3BEA-F9D8-4DEC-91AC-44674ECA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14AD-DC82-4744-AA83-12E67BA7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017-0685-4E53-B53B-3725CCF9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7B5-3373-4043-A1EF-43D4172E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618-80E2-465B-8A3E-F1A674E5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860-CA86-4B81-9C16-FF89E80B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4FB0-51FE-4563-8C29-BD9086E2B57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25640" y="3359160"/>
            <a:ext cx="528624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28680" y="993600"/>
            <a:ext cx="8358120" cy="3297240"/>
          </a:xfrm>
          <a:prstGeom prst="rect">
            <a:avLst/>
          </a:prstGeom>
          <a:ln w="0">
            <a:noFill/>
          </a:ln>
        </p:spPr>
      </p:pic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121280" y="1401840"/>
            <a:ext cx="317016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1"/>
          <a:stretch/>
        </p:blipFill>
        <p:spPr>
          <a:xfrm>
            <a:off x="353880" y="1901880"/>
            <a:ext cx="407196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2"/>
          <a:stretch/>
        </p:blipFill>
        <p:spPr>
          <a:xfrm>
            <a:off x="682560" y="1054080"/>
            <a:ext cx="7851960" cy="8301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3"/>
          <a:stretch/>
        </p:blipFill>
        <p:spPr>
          <a:xfrm>
            <a:off x="1390680" y="3645000"/>
            <a:ext cx="2998800" cy="4633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4"/>
          <a:stretch/>
        </p:blipFill>
        <p:spPr>
          <a:xfrm>
            <a:off x="4346640" y="1925640"/>
            <a:ext cx="3163680" cy="156672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5"/>
          <a:stretch/>
        </p:blipFill>
        <p:spPr>
          <a:xfrm>
            <a:off x="1420920" y="4157640"/>
            <a:ext cx="3004920" cy="58572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6"/>
          <a:stretch/>
        </p:blipFill>
        <p:spPr>
          <a:xfrm>
            <a:off x="1395360" y="5010120"/>
            <a:ext cx="3799080" cy="4636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7"/>
          <a:stretch/>
        </p:blipFill>
        <p:spPr>
          <a:xfrm>
            <a:off x="1816200" y="5499000"/>
            <a:ext cx="380340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1" descr=""/>
          <p:cNvPicPr/>
          <p:nvPr/>
        </p:nvPicPr>
        <p:blipFill>
          <a:blip r:embed="rId8"/>
          <a:stretch/>
        </p:blipFill>
        <p:spPr>
          <a:xfrm>
            <a:off x="6059520" y="3743280"/>
            <a:ext cx="248112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1"/>
          <a:stretch/>
        </p:blipFill>
        <p:spPr>
          <a:xfrm>
            <a:off x="-30240" y="993600"/>
            <a:ext cx="4071960" cy="15177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554040" y="3773520"/>
            <a:ext cx="6480000" cy="82872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1036800" y="2706840"/>
            <a:ext cx="2998800" cy="46332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4065480" y="1054080"/>
            <a:ext cx="3170520" cy="156672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4138560" y="2706840"/>
            <a:ext cx="3000600" cy="5857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1036800" y="3181320"/>
            <a:ext cx="3803400" cy="4636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1395360" y="4559400"/>
            <a:ext cx="380520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1390680" y="5162400"/>
            <a:ext cx="5126040" cy="6098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1390680" y="5810400"/>
            <a:ext cx="742932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ontent Placeholder 2" descr=""/>
          <p:cNvPicPr/>
          <p:nvPr/>
        </p:nvPicPr>
        <p:blipFill>
          <a:blip r:embed="rId1"/>
          <a:stretch/>
        </p:blipFill>
        <p:spPr>
          <a:xfrm>
            <a:off x="1042920" y="3193920"/>
            <a:ext cx="3803760" cy="46368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2"/>
          <a:stretch/>
        </p:blipFill>
        <p:spPr>
          <a:xfrm>
            <a:off x="1914480" y="4552920"/>
            <a:ext cx="380376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3"/>
          <a:stretch/>
        </p:blipFill>
        <p:spPr>
          <a:xfrm>
            <a:off x="1103400" y="5400720"/>
            <a:ext cx="5121360" cy="4636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4"/>
          <a:stretch/>
        </p:blipFill>
        <p:spPr>
          <a:xfrm>
            <a:off x="1042920" y="1127160"/>
            <a:ext cx="743112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5"/>
          <a:stretch/>
        </p:blipFill>
        <p:spPr>
          <a:xfrm>
            <a:off x="3206880" y="1657440"/>
            <a:ext cx="2376360" cy="61596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6"/>
          <a:stretch/>
        </p:blipFill>
        <p:spPr>
          <a:xfrm>
            <a:off x="3316320" y="2266920"/>
            <a:ext cx="2378160" cy="46368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7"/>
          <a:stretch/>
        </p:blipFill>
        <p:spPr>
          <a:xfrm>
            <a:off x="3584520" y="2712960"/>
            <a:ext cx="2378160" cy="46368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8"/>
          <a:stretch/>
        </p:blipFill>
        <p:spPr>
          <a:xfrm>
            <a:off x="1395360" y="4091040"/>
            <a:ext cx="3805200" cy="4618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9"/>
          <a:stretch/>
        </p:blipFill>
        <p:spPr>
          <a:xfrm>
            <a:off x="1390680" y="3638520"/>
            <a:ext cx="3803760" cy="45720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19" descr=""/>
          <p:cNvPicPr/>
          <p:nvPr/>
        </p:nvPicPr>
        <p:blipFill>
          <a:blip r:embed="rId10"/>
          <a:stretch/>
        </p:blipFill>
        <p:spPr>
          <a:xfrm>
            <a:off x="6035760" y="3809880"/>
            <a:ext cx="2475000" cy="56052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11"/>
          <a:stretch/>
        </p:blipFill>
        <p:spPr>
          <a:xfrm>
            <a:off x="2090880" y="4937040"/>
            <a:ext cx="2597040" cy="46368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12"/>
          <a:stretch/>
        </p:blipFill>
        <p:spPr>
          <a:xfrm>
            <a:off x="2090880" y="5857920"/>
            <a:ext cx="14745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2" descr=""/>
          <p:cNvPicPr/>
          <p:nvPr/>
        </p:nvPicPr>
        <p:blipFill>
          <a:blip r:embed="rId1"/>
          <a:stretch/>
        </p:blipFill>
        <p:spPr>
          <a:xfrm>
            <a:off x="353880" y="1901880"/>
            <a:ext cx="8320320" cy="7984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4" descr=""/>
          <p:cNvPicPr/>
          <p:nvPr/>
        </p:nvPicPr>
        <p:blipFill>
          <a:blip r:embed="rId2"/>
          <a:stretch/>
        </p:blipFill>
        <p:spPr>
          <a:xfrm>
            <a:off x="682560" y="1238400"/>
            <a:ext cx="7851960" cy="46188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3"/>
          <a:stretch/>
        </p:blipFill>
        <p:spPr>
          <a:xfrm>
            <a:off x="963720" y="4359240"/>
            <a:ext cx="6583320" cy="83520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4"/>
          <a:stretch/>
        </p:blipFill>
        <p:spPr>
          <a:xfrm>
            <a:off x="566640" y="2567160"/>
            <a:ext cx="4462560" cy="145548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5"/>
          <a:stretch/>
        </p:blipFill>
        <p:spPr>
          <a:xfrm>
            <a:off x="5145120" y="2567160"/>
            <a:ext cx="317016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Phil</cp:lastModifiedBy>
  <dcterms:modified xsi:type="dcterms:W3CDTF">2012-02-08T10:52:38Z</dcterms:modified>
  <cp:revision>105</cp:revision>
  <dc:subject/>
  <dc:title>Maths Studies</dc:title>
</cp:coreProperties>
</file>