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80A-FAE3-4AF2-AA53-D434469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5F1-A16E-4108-BBBF-C5ADF233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A52-D149-4351-9D76-1F31574A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552-B9A0-4A24-B0C7-268814F3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EB6-7B85-4004-8FB3-DC1457BC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1CE-DF19-4F2F-BAB7-08F245C7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97C-F823-4A45-B9DE-1F6DAADD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748-7436-4D9A-8BAD-88DE2214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0AE-D733-4B39-827C-B4D087C8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7F1-1548-428D-A9FD-14255C5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AEF-E1E5-45C5-8953-A8ED4C0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53F-A7D7-416B-9639-0FA9527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A096-6C1E-4251-954B-A85FDFC497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944640"/>
            <a:ext cx="79441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742000" y="2114640"/>
            <a:ext cx="2811600" cy="15494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541680" y="3797280"/>
            <a:ext cx="1852560" cy="701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1974960"/>
            <a:ext cx="5211720" cy="920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7440" y="2987640"/>
            <a:ext cx="559584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90400" y="5254560"/>
            <a:ext cx="3616560" cy="6336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36400" y="3902040"/>
            <a:ext cx="2597400" cy="4618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469800" y="4645080"/>
            <a:ext cx="5407200" cy="69516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2023920" y="3816360"/>
            <a:ext cx="1657440" cy="63324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305080" y="5284800"/>
            <a:ext cx="25048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999040" y="1030320"/>
            <a:ext cx="276084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2736720" y="969840"/>
            <a:ext cx="1530360" cy="6336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469800" y="2309760"/>
            <a:ext cx="2602080" cy="92088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487440" y="5541840"/>
            <a:ext cx="3828960" cy="614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487440" y="1054080"/>
            <a:ext cx="178596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2279520" y="2498760"/>
            <a:ext cx="6108840" cy="622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487440" y="1663560"/>
            <a:ext cx="2163600" cy="6224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2266920" y="1731960"/>
            <a:ext cx="2457360" cy="4683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2279520" y="312732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1"/>
          <a:stretch/>
        </p:blipFill>
        <p:spPr>
          <a:xfrm>
            <a:off x="2279520" y="3681360"/>
            <a:ext cx="5164200" cy="6159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2"/>
          <a:stretch/>
        </p:blipFill>
        <p:spPr>
          <a:xfrm>
            <a:off x="2279520" y="4260960"/>
            <a:ext cx="38401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TextBox 20" descr=""/>
          <p:cNvPicPr/>
          <p:nvPr/>
        </p:nvPicPr>
        <p:blipFill>
          <a:blip r:embed="rId13"/>
          <a:stretch/>
        </p:blipFill>
        <p:spPr>
          <a:xfrm>
            <a:off x="7029360" y="4346640"/>
            <a:ext cx="1730520" cy="10173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4"/>
          <a:stretch/>
        </p:blipFill>
        <p:spPr>
          <a:xfrm>
            <a:off x="2273400" y="4876920"/>
            <a:ext cx="384156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0:58:08Z</dcterms:modified>
  <cp:revision>12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