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6FE-CF5D-4264-BAA4-AE6D8BD2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69B-B09C-4537-B6E4-1F162A2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34C-E71D-4140-AADE-AF697DD3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5DE-6380-4341-849F-767C8272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10C-A5D0-4E76-89A7-941A97B8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59C-D9A2-4416-96A3-E06397FB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2BF-AC4D-47C3-8EF0-EF556E9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7C5-1206-499B-B1EC-94EB28A0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246-F30B-4ECC-B58D-72FB79A1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103-C666-4513-B9A3-8B8D4540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DC8-06D1-41CF-81ED-2046DE2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EA89-5C0A-45F3-BE11-B39D6A9B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7F74-A6CE-41E9-8494-CE4631A4B1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773360" y="3286080"/>
            <a:ext cx="55353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4" descr=""/>
          <p:cNvPicPr/>
          <p:nvPr/>
        </p:nvPicPr>
        <p:blipFill>
          <a:blip r:embed="rId2"/>
          <a:stretch/>
        </p:blipFill>
        <p:spPr>
          <a:xfrm>
            <a:off x="755640" y="1011240"/>
            <a:ext cx="7845480" cy="162252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2" descr=""/>
          <p:cNvPicPr/>
          <p:nvPr/>
        </p:nvPicPr>
        <p:blipFill>
          <a:blip r:embed="rId3"/>
          <a:stretch/>
        </p:blipFill>
        <p:spPr>
          <a:xfrm>
            <a:off x="5084640" y="3657600"/>
            <a:ext cx="3821400" cy="58572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4"/>
          <a:stretch/>
        </p:blipFill>
        <p:spPr>
          <a:xfrm>
            <a:off x="469800" y="2687760"/>
            <a:ext cx="8186760" cy="6458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5"/>
          <a:stretch/>
        </p:blipFill>
        <p:spPr>
          <a:xfrm>
            <a:off x="2127240" y="3187800"/>
            <a:ext cx="3773520" cy="54288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6"/>
          <a:stretch/>
        </p:blipFill>
        <p:spPr>
          <a:xfrm>
            <a:off x="1335240" y="3730680"/>
            <a:ext cx="3773160" cy="46332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7"/>
          <a:stretch/>
        </p:blipFill>
        <p:spPr>
          <a:xfrm>
            <a:off x="1322280" y="4194000"/>
            <a:ext cx="3773520" cy="4636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8"/>
          <a:stretch/>
        </p:blipFill>
        <p:spPr>
          <a:xfrm>
            <a:off x="1352520" y="4638600"/>
            <a:ext cx="712152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2" descr=""/>
          <p:cNvPicPr/>
          <p:nvPr/>
        </p:nvPicPr>
        <p:blipFill>
          <a:blip r:embed="rId2"/>
          <a:stretch/>
        </p:blipFill>
        <p:spPr>
          <a:xfrm>
            <a:off x="2090880" y="2316240"/>
            <a:ext cx="204768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3"/>
          <a:stretch/>
        </p:blipFill>
        <p:spPr>
          <a:xfrm>
            <a:off x="1335240" y="2938320"/>
            <a:ext cx="4760640" cy="84780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4"/>
          <a:stretch/>
        </p:blipFill>
        <p:spPr>
          <a:xfrm>
            <a:off x="1328760" y="1006560"/>
            <a:ext cx="5346720" cy="87768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5"/>
          <a:stretch/>
        </p:blipFill>
        <p:spPr>
          <a:xfrm>
            <a:off x="1316160" y="1901880"/>
            <a:ext cx="3779640" cy="46332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2" descr=""/>
          <p:cNvPicPr/>
          <p:nvPr/>
        </p:nvPicPr>
        <p:blipFill>
          <a:blip r:embed="rId6"/>
          <a:stretch/>
        </p:blipFill>
        <p:spPr>
          <a:xfrm>
            <a:off x="1347840" y="4511520"/>
            <a:ext cx="3741840" cy="8416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10" descr=""/>
          <p:cNvPicPr/>
          <p:nvPr/>
        </p:nvPicPr>
        <p:blipFill>
          <a:blip r:embed="rId7"/>
          <a:stretch/>
        </p:blipFill>
        <p:spPr>
          <a:xfrm>
            <a:off x="6235560" y="2987640"/>
            <a:ext cx="2494080" cy="7430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8"/>
          <a:stretch/>
        </p:blipFill>
        <p:spPr>
          <a:xfrm>
            <a:off x="1341360" y="3968640"/>
            <a:ext cx="417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47600"/>
            <a:ext cx="840744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469800" y="1006560"/>
            <a:ext cx="832644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2" descr=""/>
          <p:cNvPicPr/>
          <p:nvPr/>
        </p:nvPicPr>
        <p:blipFill>
          <a:blip r:embed="rId2"/>
          <a:stretch/>
        </p:blipFill>
        <p:spPr>
          <a:xfrm>
            <a:off x="4269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92504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4"/>
          <a:stretch/>
        </p:blipFill>
        <p:spPr>
          <a:xfrm>
            <a:off x="1182600" y="2548080"/>
            <a:ext cx="2273400" cy="46332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5"/>
          <a:stretch/>
        </p:blipFill>
        <p:spPr>
          <a:xfrm>
            <a:off x="1255680" y="1901880"/>
            <a:ext cx="6188040" cy="64620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6"/>
          <a:stretch/>
        </p:blipFill>
        <p:spPr>
          <a:xfrm>
            <a:off x="1066680" y="3664080"/>
            <a:ext cx="4395960" cy="64584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1" descr=""/>
          <p:cNvPicPr/>
          <p:nvPr/>
        </p:nvPicPr>
        <p:blipFill>
          <a:blip r:embed="rId7"/>
          <a:stretch/>
        </p:blipFill>
        <p:spPr>
          <a:xfrm>
            <a:off x="6175440" y="1889280"/>
            <a:ext cx="2401920" cy="85392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1116000" y="3041640"/>
            <a:ext cx="46148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62000"/>
            <a:ext cx="8180640" cy="69552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4"/>
          <a:stretch/>
        </p:blipFill>
        <p:spPr>
          <a:xfrm>
            <a:off x="878040" y="2597040"/>
            <a:ext cx="724212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5"/>
          <a:stretch/>
        </p:blipFill>
        <p:spPr>
          <a:xfrm>
            <a:off x="871560" y="3139920"/>
            <a:ext cx="5522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890640" y="2425680"/>
            <a:ext cx="4821120" cy="6462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1195560" y="3333600"/>
            <a:ext cx="2315880" cy="6480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5" descr=""/>
          <p:cNvPicPr/>
          <p:nvPr/>
        </p:nvPicPr>
        <p:blipFill>
          <a:blip r:embed="rId6"/>
          <a:stretch/>
        </p:blipFill>
        <p:spPr>
          <a:xfrm>
            <a:off x="5999040" y="2193840"/>
            <a:ext cx="254808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7"/>
          <a:stretch/>
        </p:blipFill>
        <p:spPr>
          <a:xfrm>
            <a:off x="884160" y="2828880"/>
            <a:ext cx="482760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8" descr=""/>
          <p:cNvPicPr/>
          <p:nvPr/>
        </p:nvPicPr>
        <p:blipFill>
          <a:blip r:embed="rId8"/>
          <a:stretch/>
        </p:blipFill>
        <p:spPr>
          <a:xfrm>
            <a:off x="5999040" y="3005280"/>
            <a:ext cx="254808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9"/>
          <a:stretch/>
        </p:blipFill>
        <p:spPr>
          <a:xfrm>
            <a:off x="1238400" y="3754440"/>
            <a:ext cx="316224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10"/>
          <a:stretch/>
        </p:blipFill>
        <p:spPr>
          <a:xfrm>
            <a:off x="1238400" y="5157720"/>
            <a:ext cx="554652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1"/>
          <a:stretch/>
        </p:blipFill>
        <p:spPr>
          <a:xfrm>
            <a:off x="1189080" y="5772240"/>
            <a:ext cx="558972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2"/>
          <a:stretch/>
        </p:blipFill>
        <p:spPr>
          <a:xfrm>
            <a:off x="1195560" y="4255920"/>
            <a:ext cx="55832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33440" y="1994040"/>
            <a:ext cx="5540400" cy="6458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4" descr=""/>
          <p:cNvPicPr/>
          <p:nvPr/>
        </p:nvPicPr>
        <p:blipFill>
          <a:blip r:embed="rId3"/>
          <a:stretch/>
        </p:blipFill>
        <p:spPr>
          <a:xfrm>
            <a:off x="682560" y="950760"/>
            <a:ext cx="785196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914400" y="5010120"/>
            <a:ext cx="5400720" cy="74448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5"/>
          <a:stretch/>
        </p:blipFill>
        <p:spPr>
          <a:xfrm>
            <a:off x="1200240" y="2620800"/>
            <a:ext cx="4962600" cy="54936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6"/>
          <a:stretch/>
        </p:blipFill>
        <p:spPr>
          <a:xfrm>
            <a:off x="865080" y="3664080"/>
            <a:ext cx="6589800" cy="64584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6" descr=""/>
          <p:cNvPicPr/>
          <p:nvPr/>
        </p:nvPicPr>
        <p:blipFill>
          <a:blip r:embed="rId7"/>
          <a:stretch/>
        </p:blipFill>
        <p:spPr>
          <a:xfrm>
            <a:off x="6175440" y="3328920"/>
            <a:ext cx="2639880" cy="79236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2120760" y="3078000"/>
            <a:ext cx="488952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2" descr=""/>
          <p:cNvPicPr/>
          <p:nvPr/>
        </p:nvPicPr>
        <p:blipFill>
          <a:blip r:embed="rId9"/>
          <a:stretch/>
        </p:blipFill>
        <p:spPr>
          <a:xfrm>
            <a:off x="1884240" y="4187880"/>
            <a:ext cx="487692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11" descr=""/>
          <p:cNvPicPr/>
          <p:nvPr/>
        </p:nvPicPr>
        <p:blipFill>
          <a:blip r:embed="rId10"/>
          <a:stretch/>
        </p:blipFill>
        <p:spPr>
          <a:xfrm>
            <a:off x="6218280" y="4273560"/>
            <a:ext cx="2487600" cy="74916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11"/>
          <a:stretch/>
        </p:blipFill>
        <p:spPr>
          <a:xfrm>
            <a:off x="1347840" y="4591080"/>
            <a:ext cx="4876920" cy="46188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12"/>
          <a:stretch/>
        </p:blipFill>
        <p:spPr>
          <a:xfrm>
            <a:off x="914400" y="5626080"/>
            <a:ext cx="71499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80960" y="1798560"/>
            <a:ext cx="1354320" cy="64620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2" descr=""/>
          <p:cNvPicPr/>
          <p:nvPr/>
        </p:nvPicPr>
        <p:blipFill>
          <a:blip r:embed="rId4"/>
          <a:stretch/>
        </p:blipFill>
        <p:spPr>
          <a:xfrm>
            <a:off x="1401840" y="4651200"/>
            <a:ext cx="5492520" cy="161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403280" y="1698480"/>
            <a:ext cx="49816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4" descr=""/>
          <p:cNvPicPr/>
          <p:nvPr/>
        </p:nvPicPr>
        <p:blipFill>
          <a:blip r:embed="rId2"/>
          <a:stretch/>
        </p:blipFill>
        <p:spPr>
          <a:xfrm>
            <a:off x="676440" y="1085760"/>
            <a:ext cx="8010360" cy="18590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189080" y="3524400"/>
            <a:ext cx="4174920" cy="6458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469800" y="2919240"/>
            <a:ext cx="8186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37:06Z</dcterms:modified>
  <cp:revision>15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