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684-FB28-4BA0-A9FB-F76738EE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F72-CAEF-43C2-8CFD-01E50507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F4B-025D-4AE0-87E5-7E412800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FC8-BE83-4313-9892-54439F02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9D1-73BB-4784-B95D-9028271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A2F1-DAB0-4EAD-8DA5-BFF87D12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AFC-260A-4D34-859C-FED475C6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CEE3-CE61-462D-8F7A-4ED01DCA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852-DD1C-4770-8C10-D9CB8D55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460-643E-43AD-941B-4DDE051C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2E5-4EF7-484E-815E-20F812B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14E-E6A2-4627-BAAD-275856BC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8B05-E0DE-470F-A59B-880B9F79A03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4549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523800" y="248760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64560" cy="1377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878040" y="2951280"/>
            <a:ext cx="5089320" cy="669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69840" y="3608280"/>
            <a:ext cx="3718080" cy="6652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00240" y="2481120"/>
            <a:ext cx="20606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6" descr=""/>
          <p:cNvPicPr/>
          <p:nvPr/>
        </p:nvPicPr>
        <p:blipFill>
          <a:blip r:embed="rId7"/>
          <a:stretch/>
        </p:blipFill>
        <p:spPr>
          <a:xfrm>
            <a:off x="5999040" y="5126040"/>
            <a:ext cx="2548080" cy="7938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8" descr=""/>
          <p:cNvPicPr/>
          <p:nvPr/>
        </p:nvPicPr>
        <p:blipFill>
          <a:blip r:embed="rId8"/>
          <a:stretch/>
        </p:blipFill>
        <p:spPr>
          <a:xfrm>
            <a:off x="4541760" y="3432240"/>
            <a:ext cx="4005360" cy="11588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981000" y="4273560"/>
            <a:ext cx="2371680" cy="6699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725480" y="4992840"/>
            <a:ext cx="3552840" cy="6458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969840" y="5730840"/>
            <a:ext cx="51865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914400" y="2786040"/>
            <a:ext cx="5089680" cy="6825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189080" y="1079640"/>
            <a:ext cx="3022560" cy="64584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7" descr=""/>
          <p:cNvPicPr/>
          <p:nvPr/>
        </p:nvPicPr>
        <p:blipFill>
          <a:blip r:embed="rId4"/>
          <a:stretch/>
        </p:blipFill>
        <p:spPr>
          <a:xfrm>
            <a:off x="6089760" y="5237280"/>
            <a:ext cx="2639880" cy="7920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8" descr=""/>
          <p:cNvPicPr/>
          <p:nvPr/>
        </p:nvPicPr>
        <p:blipFill>
          <a:blip r:embed="rId5"/>
          <a:stretch/>
        </p:blipFill>
        <p:spPr>
          <a:xfrm>
            <a:off x="4627440" y="1566720"/>
            <a:ext cx="3998880" cy="11574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011240" y="1579680"/>
            <a:ext cx="2378160" cy="6634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1847880" y="4705200"/>
            <a:ext cx="3552840" cy="648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987480" y="5267160"/>
            <a:ext cx="518796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743120" y="3449520"/>
            <a:ext cx="5095800" cy="6652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1743120" y="4078440"/>
            <a:ext cx="5095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920880" y="4645080"/>
            <a:ext cx="509580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3"/>
          <a:stretch/>
        </p:blipFill>
        <p:spPr>
          <a:xfrm>
            <a:off x="1189080" y="1079640"/>
            <a:ext cx="3022560" cy="64584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1011240" y="1584360"/>
            <a:ext cx="2378160" cy="6714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1822320" y="3419640"/>
            <a:ext cx="3560760" cy="64584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1000080" y="5742000"/>
            <a:ext cx="518796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7"/>
          <a:stretch/>
        </p:blipFill>
        <p:spPr>
          <a:xfrm>
            <a:off x="1639800" y="2114640"/>
            <a:ext cx="2151000" cy="615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8"/>
          <a:stretch/>
        </p:blipFill>
        <p:spPr>
          <a:xfrm>
            <a:off x="1030320" y="2859120"/>
            <a:ext cx="2736720" cy="61596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9"/>
          <a:stretch/>
        </p:blipFill>
        <p:spPr>
          <a:xfrm>
            <a:off x="1847880" y="5205240"/>
            <a:ext cx="355284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10"/>
          <a:stretch/>
        </p:blipFill>
        <p:spPr>
          <a:xfrm>
            <a:off x="1011240" y="3889440"/>
            <a:ext cx="51879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2" descr=""/>
          <p:cNvPicPr/>
          <p:nvPr/>
        </p:nvPicPr>
        <p:blipFill>
          <a:blip r:embed="rId2"/>
          <a:stretch/>
        </p:blipFill>
        <p:spPr>
          <a:xfrm>
            <a:off x="444600" y="1932120"/>
            <a:ext cx="8327880" cy="7254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4"/>
          <a:stretch/>
        </p:blipFill>
        <p:spPr>
          <a:xfrm>
            <a:off x="895320" y="2809800"/>
            <a:ext cx="201312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3790800" y="3273480"/>
            <a:ext cx="5089680" cy="22129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6"/>
          <a:stretch/>
        </p:blipFill>
        <p:spPr>
          <a:xfrm>
            <a:off x="901800" y="4548240"/>
            <a:ext cx="2305080" cy="6462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7"/>
          <a:stretch/>
        </p:blipFill>
        <p:spPr>
          <a:xfrm>
            <a:off x="4352760" y="2004840"/>
            <a:ext cx="2853000" cy="103680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8"/>
          <a:stretch/>
        </p:blipFill>
        <p:spPr>
          <a:xfrm>
            <a:off x="907920" y="3681360"/>
            <a:ext cx="2036880" cy="46368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9"/>
          <a:stretch/>
        </p:blipFill>
        <p:spPr>
          <a:xfrm>
            <a:off x="1590840" y="4011480"/>
            <a:ext cx="1616040" cy="46836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10"/>
          <a:stretch/>
        </p:blipFill>
        <p:spPr>
          <a:xfrm>
            <a:off x="907920" y="5016600"/>
            <a:ext cx="2921040" cy="677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11"/>
          <a:stretch/>
        </p:blipFill>
        <p:spPr>
          <a:xfrm>
            <a:off x="920880" y="5614920"/>
            <a:ext cx="55036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20:49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